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BD079-0ADB-4621-8D9C-D45F47146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C3607-2C13-4751-93A4-AFF786B2A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D63F74-520E-4B03-BD48-960BC258D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82F504-E807-4E12-9BAC-6CBDD3629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08F8BB-D883-4AEB-84EF-BB3895B98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3AB179-2738-4B9F-9B11-40AA20321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48F71C-B5A8-4E00-9BF2-FAB4A4F89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0D3032-B5C8-4F9A-8A24-DE1E8D45F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8CE20D-7837-4D44-B471-D55E70539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98FA3C-6225-4BDF-BC40-953ED62CA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67D03C-CB07-4BC6-A307-F81389F4E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7854D2-6189-4B19-BBCD-57A80313D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D9268-3D9F-4F57-9ADD-BFAC43CAA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283C00-478B-4876-ACB0-8CB808412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016A4B-ACF7-438B-A08A-3F28D6D27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3443B4-92AE-4BA9-B7EB-D7F9C8F84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2BC2BA-9D8D-4821-9238-37E691F9B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3798DE-FA2A-4299-9875-A4D16B9AA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7C589E-E27B-40B8-8EDF-6C4DE7231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48BCC0-39C5-4087-9369-1CDF36A19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B5BA29-CB17-465D-8EF8-D702F39CD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533DA0-4E80-4602-8721-15FB87857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BAB388-B889-4898-821B-3DD9F2DF3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72C45-19E9-4E43-8737-81E23A431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745950-5CE1-4046-A360-218B01E47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5A13C2-623C-4EA0-A717-581BB5765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436519-D3B4-49E0-9217-AC9CCA10C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729B37-238E-4F53-B765-17588A177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12D3C3-59CD-46DD-B35F-3DDB60434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2B2955-9C35-48E4-9449-0FF9646BB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D5D620-C279-48F6-B1CB-5505251C9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FB2D00-6FFF-43DF-B013-7D66F467E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2C171A-6248-40CD-9098-DB673950F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1F69CA-89ED-45D5-8E61-68CBB8C1C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C7619-2291-40D7-8EC8-86200EFC6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CA6960-7453-4EE1-A67B-1BDB43226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BE60C8-0282-4A98-A831-C4AB37AEC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366D9F-F138-463A-BE5F-7F5CA98F1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EA54D5-683D-45D6-BE2D-229389944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CE30A4-982D-4E3A-8F94-55994F601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1BB60D-00BD-46FD-8E42-DF649DF4C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1964A1-FD8F-4C23-A077-C41048783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A0F5AB-2791-43C6-9B0F-46B1E6D29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76553E-37FB-4D41-BA1C-DABD078AF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84028F-847A-467A-A548-2001F6F4B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BB057-F312-4E21-8148-1C068A494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781672-7A59-42E3-AA84-D2EF2AE3A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E6F6A4-EBFC-47DB-A3BE-ED0495037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B81671-FF82-4AC0-BCED-9159A1E2C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503530-44E3-41CE-BC78-693AAF9BE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37CF50-1AC6-4DE5-B2BC-A6FFA5E12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71158-A901-4BA7-BC70-1FF678ED7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B9257-7708-4151-A7AA-3BCDA790E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10ABD-B7EA-4CBC-9F22-D2B784875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CBAC2-2788-4254-B85D-273F3FDDB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04C3A-CF7A-43EA-9996-ED2A430E0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B18F7-7E92-499F-9E04-63C3BE54A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B5CC7-91D3-4A68-B3CE-4F13F0D3D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E270B-21FC-4980-A7BE-34AD0BA58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AA394-3FC9-4DE8-AC11-D2923E4CA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36399-921C-4CD3-9607-09B2CD261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4E7FE-D318-4D58-9BE2-30F5D8FF5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EA1DAE-F70C-4DF6-9D81-379CD6D08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56B3E2-EE39-438C-B947-FD3B319C7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A0CF8D-31F0-407D-8CB4-22B6F9679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321629-8E41-460C-BB9F-689EE0A12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DE3D84-1DAB-4A03-A252-55FA33F6E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2160A-52D9-41D1-96D7-3CC6D782E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1E3086-EB0D-481B-AFE4-167F2AD0E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3ECEA4-8427-4759-8C36-D56E65F80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0AC76B-9D78-4C5E-BF45-12FA07EAF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436984-20DA-46EC-B12D-1D86C259D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739508-8A97-43ED-9D15-92D77E486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9C9517-6330-445F-A85E-2A13854BC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F1FC36-8E5C-4287-9BBF-01AB0F9A9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887726-6FA9-4242-95BC-17E47A47B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802225-B216-4364-AF72-5DAB2B57B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07741C-22AB-499B-B33D-383FAE42A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4B89E-E6B6-4DCA-BF83-B5B601FE0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BF1291-4794-4325-8664-ED0AE2BED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18FF66-09F4-426F-86BB-8B03911D7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09427D-C045-4F57-930B-AB3EFBFDE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C65E27-118B-4675-948D-D542952F9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4E1703-4A83-484A-BB47-83FE5717A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4B27C0-213F-4E7D-BB9C-3D3FB6C0D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801967-506E-4CC7-A2F1-6181D5488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A8F313-97DA-4A96-8446-046C3A345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985480-B376-4966-A448-DA2EDA910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28B4C6-2840-4F8E-AAC8-B7E6C8CEF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3EDD2-97F7-407C-8832-A8F4C47BD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DA6849-2B35-4E37-A2BA-D24754391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E622EC-F0F9-433D-9CC4-A4CB9F7DA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736698-D11B-4035-910B-43863FA98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B560ED-3DA6-4670-9043-E39E15ABC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AEA212-C314-4FF1-B58B-538332546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0C69D4-54AD-459B-9CB7-2B9738C64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B3F95D-9DE9-4C7F-B4D4-AFA1A8CA9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638026-95EC-4BA4-A623-4B6C6FB10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A178A2-4351-4613-83F6-706C4B5AE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9BCA04-7F1B-4A45-B640-0F03EC342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0E75D-7314-4D27-BD8F-051274B8A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0A3EBB-156C-4273-950C-C832D7041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507DFE-6825-49FF-B3B3-E953922E4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BF3165-0902-42D2-99A1-F29CF4321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695E66-E80A-4BC0-85D5-389BA4796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4135F2-2C87-4185-9283-9ABA4DE55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2DB5F3-2280-4FD3-BD9E-B2ACB8718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80CAD2-C450-40DA-A557-E1A56A724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3E1F54-12CC-4336-BD7E-9F5B5A45C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346FAF-AE0E-454B-912E-8BA73634B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7872C2-155D-4578-93B0-3E10BECA6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FA40E-469C-4CF8-B123-A95EAB66A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CFB661-7951-43C1-9AAB-6F1ACF86C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B7B31C-3E7D-4FCA-9CBF-D98469637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A5D3E0-DAF2-4B4C-87AD-58E7617F4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937163-3E09-48E9-A3AE-83691D4F3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9C9EB8-BC47-47A6-A65B-66AEB5260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C1D328-6D68-4914-977C-FDC3E25C8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4BC0C1-4E61-4AD1-BD05-71415ECE3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14C9A8-E560-46A4-A817-9E5670483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9D4459-AB98-4847-AFF1-B17FA809A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5FB4BA-2623-4E70-B3D5-77B6B6B3A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536A2-836E-49F6-B60C-38A2386AF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B6F1D6-6A7E-4479-83EE-7F92FC6F0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58DEA9-6B49-4858-86E1-216E10A37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B6818B-AEA3-45BD-AA46-B3086C67B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EDFEB9-5EDF-4502-BFF8-A918DA2C7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0BF79A-993C-4CD3-9FEE-F1BFA8D62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FC24FB-576C-46D2-9E06-C13168B1B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520097-6B8D-4C07-B158-D7F906813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2687D8-0CB5-44D4-AEE6-4B68D0951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4E70A0-EF07-4E07-84E6-68ECB264E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DE2075-F751-41DC-A07D-5249191B6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D0EA0-E987-43CD-BFD2-335BF06A3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A66F24-C7E9-4B48-A07C-2E795F63B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074D09-56E6-4DEF-8940-863494209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E1399D-1C07-42E2-B1F9-1660D8844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46ED35-51FA-42A0-B769-D7C0536D0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6B364A-C829-48B2-95FD-CBB6B7811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DE8281-06AD-49B5-93AB-4DFB4B305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C39878-C0FE-4ECB-BCBB-3169B90C8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2D8960-9594-4075-B6CC-FD72BF382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B35C85-D785-4D30-BCAE-CF7C75180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E8B90A-D54E-476F-9593-0B4F524C2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37F1F-4360-411C-8BCC-58CCC6AF9766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E1732-1145-4224-A786-0E9D2BEF1F9B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E7CA0-3C9D-4E05-9488-CDDED88E7C53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E30F6-F945-44AE-8D5C-C2F9FE5FC5FF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D79B5-7B1C-4F65-A950-872D108DD2EA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824A6-729B-4459-85E2-49A62EA682C5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DB1A8-E136-44C0-955B-71F4C322D608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07999-E0FD-4226-83FE-07572F155ED1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A2A76-B8A0-4D61-AF01-A0DAF9A23F2E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770F8-5F5A-4EDC-B363-123C1DBF6957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9EF60-6CD0-4D10-95B7-4549BC7DD69A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12E19-10DE-474E-B100-2A01F3BC5166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121 Z otroctva hriechu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ffffff"/>
                </a:solidFill>
                <a:latin typeface="Arial"/>
              </a:rPr>
              <a:t>Z otroctva hriechu, z poroby zlej</a:t>
            </a:r>
            <a:br>
              <a:rPr sz="4400"/>
            </a:br>
            <a:r>
              <a:rPr b="1" lang="sk-SK" sz="4400" spc="-1" strike="noStrike">
                <a:solidFill>
                  <a:srgbClr val="ffffff"/>
                </a:solidFill>
                <a:latin typeface="Arial"/>
              </a:rPr>
              <a:t>ísť k tebe chcem,</a:t>
            </a:r>
            <a:br>
              <a:rPr sz="4400"/>
            </a:br>
            <a:r>
              <a:rPr b="1" lang="sk-SK" sz="4400" spc="-1" strike="noStrike">
                <a:solidFill>
                  <a:srgbClr val="ffffff"/>
                </a:solidFill>
                <a:latin typeface="Arial"/>
              </a:rPr>
              <a:t>ísť k tebe chcem,</a:t>
            </a:r>
            <a:br>
              <a:rPr sz="4400"/>
            </a:br>
            <a:r>
              <a:rPr b="1" lang="sk-SK" sz="4400" spc="-1" strike="noStrike">
                <a:solidFill>
                  <a:srgbClr val="ffffff"/>
                </a:solidFill>
                <a:latin typeface="Arial"/>
              </a:rPr>
              <a:t> svoj pokoj sám mi do srdca vlej,</a:t>
            </a:r>
            <a:br>
              <a:rPr sz="4400"/>
            </a:br>
            <a:r>
              <a:rPr b="1" lang="sk-SK" sz="4400" spc="-1" strike="noStrike">
                <a:solidFill>
                  <a:srgbClr val="ffffff"/>
                </a:solidFill>
                <a:latin typeface="Arial"/>
              </a:rPr>
              <a:t>s nádejou k tebe zriem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ffffff"/>
                </a:solidFill>
                <a:latin typeface="Arial"/>
              </a:rPr>
              <a:t>U teba úkryt môžem vždy nájsť,</a:t>
            </a:r>
            <a:br>
              <a:rPr sz="4400"/>
            </a:br>
            <a:r>
              <a:rPr b="1" lang="sk-SK" sz="4400" spc="-1" strike="noStrike">
                <a:solidFill>
                  <a:srgbClr val="ffffff"/>
                </a:solidFill>
                <a:latin typeface="Arial"/>
              </a:rPr>
              <a:t>v náručí tvojom mier je a slasť,</a:t>
            </a:r>
            <a:br>
              <a:rPr sz="4400"/>
            </a:br>
            <a:r>
              <a:rPr b="1" lang="sk-SK" sz="4400" spc="-1" strike="noStrike">
                <a:solidFill>
                  <a:srgbClr val="ffffff"/>
                </a:solidFill>
                <a:latin typeface="Arial"/>
              </a:rPr>
              <a:t> s tebou mi kynie nebeská vlasť,</a:t>
            </a:r>
            <a:br>
              <a:rPr sz="4400"/>
            </a:br>
            <a:r>
              <a:rPr b="1" lang="sk-SK" sz="4400" spc="-1" strike="noStrike">
                <a:solidFill>
                  <a:srgbClr val="ffffff"/>
                </a:solidFill>
                <a:latin typeface="Arial"/>
              </a:rPr>
              <a:t>kde žiť raz večne chcem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ffffff"/>
                </a:solidFill>
                <a:latin typeface="Arial"/>
              </a:rPr>
              <a:t>Z údolia tieňov, márností, strát</a:t>
            </a:r>
            <a:br>
              <a:rPr sz="4400"/>
            </a:br>
            <a:r>
              <a:rPr b="1" lang="sk-SK" sz="4300" spc="-1" strike="noStrike">
                <a:solidFill>
                  <a:srgbClr val="ffffff"/>
                </a:solidFill>
                <a:latin typeface="Arial"/>
              </a:rPr>
              <a:t>ísť</a:t>
            </a:r>
            <a:r>
              <a:rPr b="1" lang="sk-SK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k-SK" sz="43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1" lang="sk-SK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k-SK" sz="4300" spc="-1" strike="noStrike">
                <a:solidFill>
                  <a:srgbClr val="ffffff"/>
                </a:solidFill>
                <a:latin typeface="Arial"/>
              </a:rPr>
              <a:t>tebe</a:t>
            </a:r>
            <a:r>
              <a:rPr b="1" lang="sk-SK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k-SK" sz="4300" spc="-1" strike="noStrike">
                <a:solidFill>
                  <a:srgbClr val="ffffff"/>
                </a:solidFill>
                <a:latin typeface="Arial"/>
              </a:rPr>
              <a:t>chcem</a:t>
            </a:r>
            <a:r>
              <a:rPr b="1" lang="sk-SK" sz="4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sk-SK" sz="4300" spc="-1" strike="noStrike">
                <a:solidFill>
                  <a:srgbClr val="ffffff"/>
                </a:solidFill>
                <a:latin typeface="Arial"/>
              </a:rPr>
              <a:t>ísť</a:t>
            </a:r>
            <a:r>
              <a:rPr b="1" lang="sk-SK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k-SK" sz="43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1" lang="sk-SK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k-SK" sz="4300" spc="-1" strike="noStrike">
                <a:solidFill>
                  <a:srgbClr val="ffffff"/>
                </a:solidFill>
                <a:latin typeface="Arial"/>
              </a:rPr>
              <a:t>tebe</a:t>
            </a:r>
            <a:r>
              <a:rPr b="1" lang="sk-SK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k-SK" sz="4300" spc="-1" strike="noStrike">
                <a:solidFill>
                  <a:srgbClr val="ffffff"/>
                </a:solidFill>
                <a:latin typeface="Arial"/>
              </a:rPr>
              <a:t>chcem</a:t>
            </a:r>
            <a:br>
              <a:rPr sz="4300"/>
            </a:br>
            <a:r>
              <a:rPr b="1" lang="sk-SK" sz="43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k-SK" sz="4200" spc="-1" strike="noStrike">
                <a:solidFill>
                  <a:srgbClr val="ffffff"/>
                </a:solidFill>
                <a:latin typeface="Arial"/>
              </a:rPr>
              <a:t>žiadnych sa skúšok nemusím báť,</a:t>
            </a:r>
            <a:br>
              <a:rPr sz="4200"/>
            </a:br>
            <a:r>
              <a:rPr b="1" lang="sk-SK" sz="4400" spc="-1" strike="noStrike">
                <a:solidFill>
                  <a:srgbClr val="ffffff"/>
                </a:solidFill>
                <a:latin typeface="Arial"/>
              </a:rPr>
              <a:t>veď tebe veriť smiem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ffffff"/>
                </a:solidFill>
                <a:latin typeface="Arial"/>
              </a:rPr>
              <a:t>Môžu prísť búrky, Záchranca môj</a:t>
            </a:r>
            <a:r>
              <a:rPr b="1" lang="sk-SK" sz="4000" spc="-1" strike="noStrike">
                <a:solidFill>
                  <a:srgbClr val="ffffff"/>
                </a:solidFill>
                <a:latin typeface="Arial"/>
              </a:rPr>
              <a:t>,</a:t>
            </a:r>
            <a:br>
              <a:rPr sz="4000"/>
            </a:br>
            <a:r>
              <a:rPr b="1" lang="sk-SK" sz="4400" spc="-1" strike="noStrike">
                <a:solidFill>
                  <a:srgbClr val="ffffff"/>
                </a:solidFill>
                <a:latin typeface="Arial"/>
              </a:rPr>
              <a:t>pri tebe nájdem prístav vždy svoj,</a:t>
            </a:r>
            <a:br>
              <a:rPr sz="4400"/>
            </a:br>
            <a:r>
              <a:rPr b="1" lang="sk-SK" sz="4400" spc="-1" strike="noStrike">
                <a:solidFill>
                  <a:srgbClr val="ffffff"/>
                </a:solidFill>
                <a:latin typeface="Arial"/>
              </a:rPr>
              <a:t> len ty si mojej istoty zdroj,</a:t>
            </a:r>
            <a:br>
              <a:rPr sz="4400"/>
            </a:br>
            <a:r>
              <a:rPr b="1" lang="sk-SK" sz="4400" spc="-1" strike="noStrike">
                <a:solidFill>
                  <a:srgbClr val="ffffff"/>
                </a:solidFill>
                <a:latin typeface="Arial"/>
              </a:rPr>
              <a:t>k tebe sa priviniem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200" spc="-1" strike="noStrike">
                <a:solidFill>
                  <a:srgbClr val="ffffff"/>
                </a:solidFill>
                <a:latin typeface="Arial"/>
              </a:rPr>
              <a:t>V trápení, smútku, pod ťarchou vín</a:t>
            </a:r>
            <a:br>
              <a:rPr sz="4300"/>
            </a:br>
            <a:r>
              <a:rPr b="1" lang="sk-SK" sz="4300" spc="-1" strike="noStrike">
                <a:solidFill>
                  <a:srgbClr val="ffffff"/>
                </a:solidFill>
                <a:latin typeface="Arial"/>
              </a:rPr>
              <a:t>ísť k tebe chcem,</a:t>
            </a:r>
            <a:br>
              <a:rPr sz="4300"/>
            </a:br>
            <a:r>
              <a:rPr b="1" lang="sk-SK" sz="4300" spc="-1" strike="noStrike">
                <a:solidFill>
                  <a:srgbClr val="ffffff"/>
                </a:solidFill>
                <a:latin typeface="Arial"/>
              </a:rPr>
              <a:t>ísť k tebe chcem;</a:t>
            </a:r>
            <a:br>
              <a:rPr sz="4300"/>
            </a:br>
            <a:r>
              <a:rPr b="1" lang="sk-SK" sz="4300" spc="-1" strike="noStrike">
                <a:solidFill>
                  <a:srgbClr val="ffffff"/>
                </a:solidFill>
                <a:latin typeface="Arial"/>
              </a:rPr>
              <a:t>vráť srdcu radosť, bremeno sním,</a:t>
            </a:r>
            <a:br>
              <a:rPr sz="4300"/>
            </a:br>
            <a:r>
              <a:rPr b="1" lang="sk-SK" sz="4300" spc="-1" strike="noStrike">
                <a:solidFill>
                  <a:srgbClr val="ffffff"/>
                </a:solidFill>
                <a:latin typeface="Arial"/>
              </a:rPr>
              <a:t>že miluješ ma, viem.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ffffff"/>
                </a:solidFill>
                <a:latin typeface="Arial"/>
              </a:rPr>
              <a:t>Na všetky žiale útechu máš,</a:t>
            </a:r>
            <a:br>
              <a:rPr sz="4400"/>
            </a:br>
            <a:r>
              <a:rPr b="1" lang="sk-SK" sz="4300" spc="-1" strike="noStrike">
                <a:solidFill>
                  <a:srgbClr val="ffffff"/>
                </a:solidFill>
                <a:latin typeface="Arial"/>
              </a:rPr>
              <a:t>láskavým slovom strach zažehnáš</a:t>
            </a:r>
            <a:br>
              <a:rPr sz="4300"/>
            </a:br>
            <a:r>
              <a:rPr b="1" lang="sk-SK" sz="4400" spc="-1" strike="noStrike">
                <a:solidFill>
                  <a:srgbClr val="ffffff"/>
                </a:solidFill>
                <a:latin typeface="Arial"/>
              </a:rPr>
              <a:t>a v boji viery víťazstvo dáš,</a:t>
            </a:r>
            <a:br>
              <a:rPr sz="4400"/>
            </a:br>
            <a:r>
              <a:rPr b="1" lang="sk-SK" sz="4400" spc="-1" strike="noStrike">
                <a:solidFill>
                  <a:srgbClr val="ffffff"/>
                </a:solidFill>
                <a:latin typeface="Arial"/>
              </a:rPr>
              <a:t>k tebe len ísť vždy smiem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ffffff"/>
                </a:solidFill>
                <a:latin typeface="Arial"/>
              </a:rPr>
              <a:t>Keď vôkol vládne pýcha a klam,</a:t>
            </a:r>
            <a:br>
              <a:rPr sz="4400"/>
            </a:br>
            <a:r>
              <a:rPr b="1" lang="sk-SK" sz="4400" spc="-1" strike="noStrike">
                <a:solidFill>
                  <a:srgbClr val="ffffff"/>
                </a:solidFill>
                <a:latin typeface="Arial"/>
              </a:rPr>
              <a:t>ísť k tebe chcem,</a:t>
            </a:r>
            <a:br>
              <a:rPr sz="4400"/>
            </a:br>
            <a:r>
              <a:rPr b="1" lang="sk-SK" sz="4400" spc="-1" strike="noStrike">
                <a:solidFill>
                  <a:srgbClr val="ffffff"/>
                </a:solidFill>
                <a:latin typeface="Arial"/>
              </a:rPr>
              <a:t>ísť k tebe chcem,</a:t>
            </a:r>
            <a:br>
              <a:rPr sz="4400"/>
            </a:br>
            <a:r>
              <a:rPr b="1" lang="sk-SK" sz="4400" spc="-1" strike="noStrike">
                <a:solidFill>
                  <a:srgbClr val="ffffff"/>
                </a:solidFill>
                <a:latin typeface="Arial"/>
              </a:rPr>
              <a:t>tebe sa, Pane, rád odovzdám,</a:t>
            </a:r>
            <a:br>
              <a:rPr sz="4400"/>
            </a:br>
            <a:r>
              <a:rPr b="1" lang="sk-SK" sz="4400" spc="-1" strike="noStrike">
                <a:solidFill>
                  <a:srgbClr val="ffffff"/>
                </a:solidFill>
                <a:latin typeface="Arial"/>
              </a:rPr>
              <a:t>kiež hlas tvoj počujem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ffffff"/>
                </a:solidFill>
                <a:latin typeface="Arial"/>
              </a:rPr>
              <a:t>Zo sveta strastí, úzkostí, chmár,</a:t>
            </a:r>
            <a:br>
              <a:rPr sz="4400"/>
            </a:br>
            <a:r>
              <a:rPr b="1" lang="sk-SK" sz="4400" spc="-1" strike="noStrike">
                <a:solidFill>
                  <a:srgbClr val="ffffff"/>
                </a:solidFill>
                <a:latin typeface="Arial"/>
              </a:rPr>
              <a:t>k tebe len ísť chcem,</a:t>
            </a:r>
            <a:br>
              <a:rPr sz="4400"/>
            </a:br>
            <a:r>
              <a:rPr b="1" lang="sk-SK" sz="4400" spc="-1" strike="noStrike">
                <a:solidFill>
                  <a:srgbClr val="ffffff"/>
                </a:solidFill>
                <a:latin typeface="Arial"/>
              </a:rPr>
              <a:t>zrieť tvoju tvár,</a:t>
            </a:r>
            <a:br>
              <a:rPr sz="4400"/>
            </a:br>
            <a:r>
              <a:rPr b="1" lang="sk-SK" sz="4400" spc="-1" strike="noStrike">
                <a:solidFill>
                  <a:srgbClr val="ffffff"/>
                </a:solidFill>
                <a:latin typeface="Arial"/>
              </a:rPr>
              <a:t>Spasiteľ môj si, Boh môj a Kráľ,</a:t>
            </a:r>
            <a:br>
              <a:rPr sz="4400"/>
            </a:br>
            <a:r>
              <a:rPr b="1" lang="sk-SK" sz="4400" spc="-1" strike="noStrike">
                <a:solidFill>
                  <a:srgbClr val="ffffff"/>
                </a:solidFill>
                <a:latin typeface="Arial"/>
              </a:rPr>
              <a:t>vrúcne ťa milujem.</a:t>
            </a:r>
            <a:br>
              <a:rPr sz="4400"/>
            </a:br>
            <a:r>
              <a:rPr b="1" lang="sk-SK" sz="4400" spc="-1" strike="noStrike">
                <a:solidFill>
                  <a:srgbClr val="ffffff"/>
                </a:solidFill>
                <a:latin typeface="Arial"/>
              </a:rPr>
              <a:t>–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DUMAS Ing. Dušan Bielik</cp:lastModifiedBy>
  <dcterms:modified xsi:type="dcterms:W3CDTF">2025-02-18T16:39:10Z</dcterms:modified>
  <cp:revision>21</cp:revision>
  <dc:subject/>
  <dc:title>Je veľký náš Pán, on slávy je Kráľ Nech do všetkých strán  spev vrúcnych znie chvál.</dc:title>
</cp:coreProperties>
</file>